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EB17-72FE-4B18-B4AB-E5BC714A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1DEA-E09A-455A-8643-D7F62509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A6B7-372A-40E4-BF1A-CBCBF2DE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B9B8-0E90-41FD-B85C-24801C1B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6926-3C4E-45FE-B22A-CBDE61A6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F412-D7F7-42BC-9367-F14A427A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F054-F667-4BD4-898D-0FBA20E5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F207-5D63-44B5-B128-82E19043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A8A4-35BD-47AA-95FE-EEF67341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233D-340F-4CD4-B5D6-A7DC04BF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3E51-077F-4ABA-B91B-7555AA80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9C97-CEB7-4997-BD51-813D9937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76FC-9707-46C3-9D04-91642444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EE25-FB50-446C-AA91-3092F891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8C5F-ABF2-4FA3-988B-33DABE29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10AF-1ABC-4CD1-AA60-C2F5A279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865B-B2D7-412B-B3F4-72BD4ACE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41A0-3F03-48F7-9555-1CCE50E9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037D-FE48-43F1-BA1A-632118B8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8B6E-18CA-4681-9E93-CF5CCECD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EBA0-C9C9-4207-88DC-9F82FD6E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2251-8464-453F-B608-4B9A7256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5CC7-91A5-4E53-A748-B1479F3B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8ABE-FB26-434A-BD7B-B0B4DD22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9A01-8D28-4C21-9375-C353DB2C8CE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A1FF-C37E-4D77-B35B-8B045077B68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dfdef6"/>
                </a:solidFill>
                <a:uFillTx/>
                <a:latin typeface="Arial"/>
              </a:rPr>
              <a:t>Korrosion (allg. Rost)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99200" cy="464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el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stehend aus ANODE und KATHODE in Berührung mit einer leitenden Flüssig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Edlere Werkstoff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: Kathode                     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unedlere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: Anode, in einem Elektrolyt führt zu einer anodischen Auflösung (Oxidation) des unedleren durch Elektronenabga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potenzial ist proportional zur Höhe der elektrochem.Spann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ildung von Anode und Katho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ch unterschiedliche Werkstof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 Oberflächen (Bildung von Lokalelemen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ügebestandteile heterogener Legieru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erschiedliche Spannungs- und Verformungsbereiche (gekantetes Ble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 Lokalelemen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26800" y="2162880"/>
            <a:ext cx="50922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lektrochemische Sauerstoffkorrosion feuchter Stahloberfläch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37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835280" y="1514520"/>
            <a:ext cx="54086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 verschiedene Werkstoff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11280" y="1825560"/>
            <a:ext cx="79675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Einflussgrößen der Kontaktkorrosionsgefahr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zialdifferen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lytzusammensetz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ächenverhältnis des edleren zum unedleren 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lytwi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rmalspannungsreihe liefert für die Praxis keine brauchbaren Ergebni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sche Spannungsreihen als Hil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Elektrische Trennung wäre optima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wirken von Sauerstoff; Salzen; Gasen; Säuren auf die Metalloberfläche, wobei eine chemische Verbindung entste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bei spielt der Sauerstoff eine wesentliche Rolle, der mit den Metallen dass Metalloxid bild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 typisches Beispiel für chemische Korrosion ist das Zundern von Stahl. Bei hoher Temperatur reagiert der Luftsauerstoff unmittelbar mit dem Eisen, es bildet sich Eisenox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Zundern von Stah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1418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Metallphysikalische Reaktio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se Art der Reaktion tritt nur sehr selten auf, z.B. bei der ,,Zinnpest". Hierbei zerfällt das Zinn bei sehr tiefen Temperaturen durch Gitterumwandl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eichmäßige Flächen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den- und Loch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takt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lt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nungsriss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ktive Korro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Glied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rtschaftlicher Schaden durch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griff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arten (chemische Vorgän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 und ihr Erscheinungsb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assivi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schu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such zur elektrochem. 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57840" cy="358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498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941800" cy="44672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7122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 und ihr Erscheinungsbil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240680" cy="455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Passivi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4876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Passivie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ierung der Metalloberfläche durch Bildung einer haltbaren, dichten Oxidschi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Ch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p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Oxidschicht bei Stahl locker und porös,  Metall keinen Schutz. Korrodiert bis zur vollständigen Auflös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schutz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swahl geeigneter Werkstof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schutzgerechte Konstruk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ntaktkorrosionsstellen sind auszuschal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palte sind zu vermeid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öglichst glatte Oberflächen sind zu schaffen, z.B. durch Abschleifen oder Pol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rrosionsschutzschichten auf Eisenwerkstof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atodischer Korrosionsschutz (mit Opferanode oder Fremdstroma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sschutzgerechte Konstruktio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158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sschutzschicht auf Stah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2946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Wirtschaftlicher Schaden durch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Korros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2% des Bruttosozialproduktes eines Landes gehen verlore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% Kosteneinsparung möglich, wenn Kenntnisse über Korrosion und Korrosionsschutz technisch besser genutzt würden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Schutzmetallschich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zu schützende Metall muss edler als das Überzugsmetall se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echtes Schutz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Verletzung der Schicht löst sich das Schutzmetall au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berzugmetall ist edler als das zu schützende Meta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unechtes Schutzme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dfdef6"/>
                </a:solidFill>
                <a:uFillTx/>
                <a:latin typeface="Arial"/>
              </a:rPr>
              <a:t>Katodischer Schutz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wußte Erzeugung eines Korrosionselem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 schützende Metall ist die Kathode, das zu opfernde Metall ist die Anode, es muss unedler als der Kathodenwerkstoff s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dfdef6"/>
                </a:solidFill>
                <a:uFillTx/>
                <a:latin typeface="Arial"/>
              </a:rPr>
              <a:t>Katodischer Korrosionsschutz mit Opferano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vanischer Vorg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kundärer Korrosionsschu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1332000" y="2924280"/>
            <a:ext cx="66247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dfdef6"/>
                </a:solidFill>
                <a:uFillTx/>
                <a:latin typeface="Arial"/>
              </a:rPr>
              <a:t>Katodischer Korrosionsschutz mit Fremdstrom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lektrolytischer Vorga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k. Schu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stellen der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forderl. Schutz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romdich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3564000" y="1773360"/>
            <a:ext cx="53290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Versuch zur elektrochemischen Korros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hezu gesättigte Salzwasserlösung (Salzgehalt ca. 35 % hohe Leitfähigkeit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chiedenartige Korrosionselemente in der Salzlös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fgabe zur Kontaktkor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griffsdefinition DIN 509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griff und Zerstörung metallischer Werkstoffe durch Reaktionen mit Wirkstoffen aus der Umgebung. (lat. corrodere = zernage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rrosionsprodukt (z.B. Rost) kann löslich, unlöslich oder auch festhaftend se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ost chem. FeO(OH)  Eisenoxidhydroxid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Durch Korrosion geht Werkstoff verloren!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wächung des Querschni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e Verletzung der Oberfläc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s Korrosionsprodukt hat ein größeres Volu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Von einem Korrosionsschaden spricht man jedoch erst, wenn die Funktion beeinträchtigt ist. 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Beispiele für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971640" y="1376280"/>
            <a:ext cx="3384360" cy="25369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402000" cy="25509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5219640" y="4076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Korrosionsart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lektrochemisch (häufigste 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hemisch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tallphysikalisch (seltenste 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(Erosionskorrosion durch Festkörper-  teilch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 Gebrauchsmetalle befinden sich im unstabilen Zu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e wollen wieder in ihre Oxide oder Sulfide aus denen sie gewonnen wurden zurückke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reben des Metalls seine Ionen in die Lösung zu se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Elektrochemische Korro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 alle Korrosionsvorgänge   sind elektrochemischer Natur, ihr Mechanismus entspricht einem galvanischen El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uchtigkeitsfilm als Elektrolyt, Handschweiß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serreste in Spalt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5878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6:58:09Z</dcterms:created>
  <dc:creator>M</dc:creator>
  <dc:description/>
  <dc:language>en-US</dc:language>
  <cp:lastModifiedBy>BF20-04</cp:lastModifiedBy>
  <dcterms:modified xsi:type="dcterms:W3CDTF">2005-12-26T18:46:51Z</dcterms:modified>
  <cp:revision>77</cp:revision>
  <dc:subject/>
  <dc:title>Korrosion</dc:title>
</cp:coreProperties>
</file>